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2ED7-448D-438E-9895-45E29D8A4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6D33-5C21-440F-A647-6D180A8B52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7156-FED8-49E7-AE45-8748E33424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9A6F-A03B-412D-A3AF-5939608AE2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3E52-1F83-457E-9C81-C43AC82A02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EB47-CACF-4F18-B237-60586D806C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A655-B628-435A-8324-8169343880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CC23-FB56-4CB1-9DE8-4FB8017B4C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7611-4C7D-441B-AD33-DD5861777D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046D-7218-480A-8BB1-4358A147C1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AF67-D146-4BF4-AA10-785A951B25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0737-8D91-4954-A22C-AF38B5ACFD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57FE-3487-4D6B-97E6-3B4EB6171B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C712-94E9-4750-AB88-F8FB1E6AB6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78FD-FD4D-4DA8-9CA0-3548D64DE4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7B9E-BF9C-48D1-BB71-0EEC842FFE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3943-0F6D-4210-836C-893A53FDAD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3073-C515-43EC-BF1C-3622B101D1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ADEA-0658-4FCE-A909-D560670F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3523-820F-4B3B-A547-C15DD074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5F5F-9D9D-4FC2-895D-6381E2DF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5C9A-4D25-472B-9C6B-18E683BB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6857-8D7D-4F8A-B237-A1379F2A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CE19-ECFF-4A10-82B5-E4EFBBEE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CDBA-9069-4D9A-BF25-00827AA9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0F8F-3CC8-4032-9CE9-80B15227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1217-D1A4-4176-8CC8-0D62C662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68B6-8159-47E1-879E-7D7A61D9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1E01-74F5-49F2-B6A4-B3373626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6A7F-A73C-440C-AAD9-7AAACEE0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E17D-BCAF-4BEC-9924-C6A42AAE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C788-8D82-411D-A19A-9AA7B28C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CEFF-1C2E-448B-8325-845F425C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183C-CEEB-486E-A7AF-0C97139E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7869-AA7B-4158-ADE3-B789E461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8A8B-FF83-42DA-94F5-05D51D60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5826-A1CD-40D8-A153-E0D26D2D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A80A-319F-4CE2-BD4F-D5D75FBA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1D7D-3E10-4D70-8D06-BA396282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FF2E-5FA4-48F4-8353-D3CAD1E0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E2DA-F89C-446D-B638-F3EAE5BA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8AD2-BB13-4C14-9054-BAF78B31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8AA4-CA55-4E0B-BD2E-70A1E0CE5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6339-4868-4CA7-BE4B-51E934752F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Comic Sans MS"/>
              </a:rPr>
              <a:t>Content Literacy in Math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Using Literacy Strategies in the Math Classro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radley Hand ITC"/>
              </a:rPr>
              <a:t>WRITING IN MATH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RUE UNDERSTANDING HAPPENS WHEN ONE CAN EXPLAIN A CONCEPT TO ANOTHER!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adley Hand ITC"/>
              </a:rPr>
              <a:t>Writing Guideline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Bradley Hand ITC"/>
              </a:rPr>
              <a:t>(According to Matkovich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from Day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ill be a journey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– Model– Model (show examples—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and ba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 the use of Vocabulary Words in writing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Bradley Hand ITC"/>
              </a:rPr>
              <a:t>Writing Activities</a:t>
            </a:r>
            <a:r>
              <a:rPr b="1" lang="en-US" sz="4400" spc="-1" strike="noStrike">
                <a:solidFill>
                  <a:srgbClr val="ccecff"/>
                </a:solidFill>
                <a:latin typeface="Bradley Hand ITC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h Story (Given as HW Day 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 Journal (Interdisciplinary Journ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Summ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radley Hand ITC"/>
              </a:rPr>
              <a:t>TEAM JOURN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 one every 1 ½ to 2 wee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checked for completion-but not collected and actually gra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groups read their journals to each other, and pick the best one to sh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domly pick students to read (popsicle stick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group contest—which group uses the most vocabulary word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Bradley Hand ITC"/>
              </a:rPr>
              <a:t>Journal Prompt #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zy just moved to our school from Washington.  She needs you to explain how to complete the following problem.  Do not leave out one step or she will be los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½ ÷  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Bradley Hand ITC"/>
              </a:rPr>
              <a:t>Journal Entry #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Pretend you are a division sign.  Tell me about a typical day for a division sign.  Try to include 15 vocabulary words from the word wall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Describe the difference between an expression and an equa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Bradley Hand ITC"/>
              </a:rPr>
              <a:t>LESSON SUMMARIES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57200" y="1600200"/>
          <a:ext cx="8229600" cy="5105520"/>
        </p:xfrm>
        <a:graphic>
          <a:graphicData uri="http://schemas.openxmlformats.org/drawingml/2006/table">
            <a:tbl>
              <a:tblPr/>
              <a:tblGrid>
                <a:gridCol w="6324480"/>
                <a:gridCol w="1905120"/>
              </a:tblGrid>
              <a:tr h="510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E NO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MARY!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SENTENCES ABOUT THE LESSON!  ENCOURAGE TO INCLUDE VOCABULARY WORDS!!  CHECK FOR COMPLETION—CHOOSEN RANDOMLY TO READ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KE NO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S ABOUT THE NOTES!!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254" name="Straight Connector 5"/>
          <p:cNvSpPr/>
          <p:nvPr/>
        </p:nvSpPr>
        <p:spPr>
          <a:xfrm>
            <a:off x="457200" y="5410080"/>
            <a:ext cx="63244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XTBOOK SCAVENGER HUNT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523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Bradley Hand ITC"/>
              </a:rPr>
              <a:t>Teach students how to use their Math textbook!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PS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Content Literacy a priority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cabulary, Writing, 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it slow—Don’t try to implement everything at one time!!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ure what you choose to do has a purpose and is meaningful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vocabulary an everyday part of your classroom—Not just one special day of the week or mon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want students to write in math, you have to teach them how to do so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Comic Sans MS"/>
              </a:rPr>
              <a:t>Vocabul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aching Mathematics Vocabulary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 Contex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by:  Miki Mur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 Wall/ Personal Word W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every two week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Vocabulary Notec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Vocabulary Activ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***Use Everyday in Math DISCUSSIONS!**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*** Use in writing!! **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Comic Sans MS"/>
              </a:rPr>
              <a:t>VOCABULARY NOTECA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1828800"/>
          <a:ext cx="8229600" cy="3886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9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9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NON-EXA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PIC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Word Examp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e--- a number with two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site– a number with more than 2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ive Property– a ( b + c) – ab + 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 Number- a number that can be written as a f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Comic Sans MS"/>
              </a:rPr>
              <a:t>Vocabulary Activit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word Puzz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 Scrambles (Examp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ctional Stories (Guidelines/Differentia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as a Var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letter to a holiday charac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**Provide a Rubric**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bonacci Poem (1, 1, 2, 3, 5, 8, 5, 3, 2, 1, 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Circles (Differentia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Fibonacci Po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VI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LE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AINDER Z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 LAST DIGIT IS E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N DIVIDE BY TW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Comic Sans MS"/>
              </a:rPr>
              <a:t>Four Circ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51920" y="9903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a list of vocabulary words, and four circles.  Students must group the words into the four circles and give each circle a titl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ariabl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ariable Expression      Sum       Product       Quotien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fferenc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Evaluate      Integ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tional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rational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tributive     Terminating Decimal       Repeating Decimals    Absolute 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pposit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Natural     Constant       Term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efficient        Whole       Additive Inver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utative         Associative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3"/>
          <p:cNvSpPr/>
          <p:nvPr/>
        </p:nvSpPr>
        <p:spPr>
          <a:xfrm>
            <a:off x="685800" y="5486400"/>
            <a:ext cx="1295280" cy="12193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4"/>
          <p:cNvSpPr/>
          <p:nvPr/>
        </p:nvSpPr>
        <p:spPr>
          <a:xfrm>
            <a:off x="2743200" y="5334120"/>
            <a:ext cx="1447920" cy="1371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5"/>
          <p:cNvSpPr/>
          <p:nvPr/>
        </p:nvSpPr>
        <p:spPr>
          <a:xfrm>
            <a:off x="5029200" y="5334120"/>
            <a:ext cx="1447920" cy="1371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6"/>
          <p:cNvSpPr/>
          <p:nvPr/>
        </p:nvSpPr>
        <p:spPr>
          <a:xfrm>
            <a:off x="7238880" y="5334120"/>
            <a:ext cx="1447920" cy="1371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GAMES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THAT VOCABULARY 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BOO– WITH MATH WORD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--- WHO H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49:46Z</dcterms:created>
  <dc:creator>matkovichc</dc:creator>
  <dc:description/>
  <dc:language>en-US</dc:language>
  <cp:lastModifiedBy>dd</cp:lastModifiedBy>
  <dcterms:modified xsi:type="dcterms:W3CDTF">2012-10-01T12:15:36Z</dcterms:modified>
  <cp:revision>22</cp:revision>
  <dc:subject/>
  <dc:title>Content Literacy in Math</dc:title>
</cp:coreProperties>
</file>